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A19-870B-47E3-9E64-0F5AC2985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0AB-2875-4E23-971A-B3BA33C5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B0F55-3AB0-4C29-B04F-AFCFE4DE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54005-E39C-4677-99C0-AFD6771B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61685-728A-4397-99DA-1A9FD92A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E9485-30EC-468D-B7D7-145914B4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50072-CF3A-46A5-ADD5-99A22A82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7F133-A1AE-4066-A70D-D277D99F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D1303-8FCE-427C-97F8-2CB0C7E3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8F0E6-DA9F-4C6D-80B0-CA56CAE6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FC145-1398-481E-B47A-D8644003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2AD28-FBD7-44D5-8B00-391598EC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13BB-AB70-4B0B-9960-AC4369D3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06941-5D9A-4F45-8C7F-C80286A0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26D26-E9D8-4253-9C53-E798BB76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C7A54-0730-47C5-A694-BB57EFAD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52CC5-1066-4D62-9831-7E325761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E7577-4F5C-4799-BDA4-4112F695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ECD4F-E48A-4DE0-8CD8-D7C9FD08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2C6AF-CC84-4C33-AB56-9E534C42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ECC4D-92FF-470F-970F-2C71C1EA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52D14-BD11-49DD-8754-3BEDD4916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ACE5C-3ACE-493A-8B64-EFD0FC21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96B-F149-4B56-89C5-2982EAC3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E67BC-6923-4A96-8174-A2FCDD96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713E8-4D8D-4592-A906-40E6DBED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DC3E0-0B86-47F4-BA7C-ED89EA09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FF2D5-96F5-42EA-81CB-C2CA5A48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CE12D-A176-470B-95B6-81D7AAF2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CCAF9-A1F8-4F5F-9423-718C94CD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D8B5F-AC2E-4937-A883-6D7E553A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1B548-D309-4AE9-80B6-A8313FDB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D2243-170E-4DFE-8D71-B7034108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DB96D-1938-4028-B5B4-96B231D7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C530C-9052-4772-AD4C-84CF1E59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EEDFA-57DB-488E-86DA-95ACC8D9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D3B99-ABE6-4AAB-B787-55BE8E140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1A0ED-C3A0-4B26-B9BC-A35CFE08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08F69-4D06-4396-8291-384DCF3D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DFE49-243B-4396-83C1-C04D1C3A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6DECD-36BD-40CC-877D-20E5F844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F92D7-23F2-42AC-82C4-866BD43F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43D60-36D4-456B-8537-124E22A7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F449A-A9D5-4046-8014-DED9D8C4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AB32D-B521-4B55-BB96-E258D109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3B786-3011-40B1-92DB-17FA3F04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75E08-F56E-4E5A-B25C-84369FF3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274E8-685D-42F8-88E6-5613B541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94569-9C83-448F-8313-1DCF40F7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4180A-E9C7-46E2-9A6F-83F1272D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C77A0-72C2-4291-A50F-33CC8FE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AD07F-8D0C-49B3-9428-A2EE065D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02E47-77FC-4B21-8F2D-B48E3597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5F81B-118F-4207-A7A9-06674FD0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346B7-7A12-4F02-BC7E-2CDF5D2E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54E76-A571-4E6E-816E-46027346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0B461-F64F-4215-B0B8-9E5A3959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C6A68-7C53-4171-98E5-5120CC4C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B11325-ECEB-4CF7-9E59-6DA064D7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21675-5DA8-4E8C-9FC7-4BED3E254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5AD7D-69CA-4F01-889A-8D6FC9A0C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6448F6-BC78-45A2-9665-46B36E5E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405AE-D748-48A4-A928-0BB3211E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54B3F9-A329-4CE2-B9D8-4410178F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71E52-1E95-404E-91AE-B7481A5E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938F6-95CC-48B1-9CD2-641B97E5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3E13D-A8BC-4F7C-87FD-2F68F062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D5D92-6D94-494C-9932-380219EA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483512-4213-4274-998A-4BDACB39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E1E0F-E52B-4186-AF13-94ECC14D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810AD-5AE8-41DD-88E8-D5BDF32E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C3F3A-033B-4D19-996D-9DDCB5B1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B9395-540E-4248-B36E-5091F5C5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37ED2-2EF8-4D09-8D70-C3EB5A03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4E420-018A-41F0-996D-784C5986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E567E-3493-40E7-91AC-1A197C10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62A23D-1065-47EC-A09B-2D56D873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F47C60-2BC6-40ED-B659-00EBF226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42F152-E020-481D-A1E9-CD8D25D4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C4781-9C61-46A4-AA89-C2CBE2F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B52C0-2D95-4C6B-801C-0954DB20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78B0CF-96D8-4D14-B81B-DDD0015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9B509-46B2-438F-ABB8-9328650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86E59-42B5-426D-BE0A-19121AEB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F6C01-C375-4C19-BA4D-E517E875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E48819-1CCF-497D-B89F-BAC71EFB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E459AE-E142-4CAE-BCDC-F5CCCFBCD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D49565-A886-45FD-987F-3532EE7D1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85C5C-BAA5-4A61-A720-84E3372A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1CFB36-E944-4BFB-A59D-50E16176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43E97E-FD68-447A-9F9A-343BBE6C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FEDFD-D212-4E0F-9D0E-322AB4C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BD8089-3373-4186-9BE0-8BACEED4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BEEE8-7784-456F-8C6C-8BEB2622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2A521-9C5C-4D77-A1D4-53B39B4B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F5193-34B3-4140-A93C-629D6D1EB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6AD68-F18E-417D-9BA9-66C42474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A2C82-6EA2-4252-B519-57651EF0D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ADBADE-ED52-4B5D-B7F1-24C4E6A0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F7ADC-6D62-468F-8810-B539F347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E75FE0-B782-4F79-8503-67FF243A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A760A-9F15-49A4-A977-054152A7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156FD-D788-4F88-A2DF-F180085A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F2A96C-B337-4123-9EF6-8D0350C6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5CF7-4A16-4F96-92E7-DA0D0190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743F3-3AE9-4691-91C6-98368214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3773A-632D-4249-850A-5B8CFF70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C0751-C33C-40AA-9675-48E4259B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C8F37C-A8C1-4284-8C09-B80FEE5FF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434791-A962-4AF8-93BE-EF34684D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A02B69-4EA7-40A3-A8D9-E6DFBC76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A13F4-B85C-473A-9BBF-1340014C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5DB47-2F96-4C45-AAC2-DFA6764D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E0C47C-C431-4EDC-A285-A29762CC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00FFD-2C5A-4B13-976A-3B02512D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BFDDEA-F748-4FBF-8987-168F6AA3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9A1DB-315D-48E3-9774-14FF2ACD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CA1BF2-421E-4B82-9E6B-075DBE0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864BB1-3517-4558-8B1C-99D15912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E38E4-7927-4AAA-937E-B26CE409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6B69FE-E26D-47B1-8554-5F30FF90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F1AC0-CF5A-4043-ADEE-1C9E7563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7AFEEC-116F-4832-AAD8-C4C77236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643F0-841F-43B5-AE84-7D4B293E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AC41C-72E9-4B9B-8883-0AF23BAF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5CB4B8-F2FF-4842-B1E0-8C3D4D91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8F8D3-DC92-4A64-AAB4-06F21599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34394E-E0F0-4537-BE6B-3F99D597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953B55-2D87-44BF-B031-A362F634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94AC3-E22F-438E-9006-A3DAE80A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9B186D-F1F1-4C74-B530-0B4F07E8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BFD1D4-8971-43C6-B399-C61EE906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E830D-9E2C-4B00-A623-7FC4A007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CA91E-25BE-476D-8C33-139216B5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685598-56F7-4C56-A745-D0AB87FD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092CA-106F-48B8-A607-C1FC3909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9F7AD-775C-45F8-9E18-99515AEC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02FAA6-FA74-4193-8EB5-FC1BA719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BC218B-5517-4E11-8EE6-34FB9773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A8857D-5902-4CAA-9774-995E42F3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692F08-0685-48DE-8E7C-D2CAD5DE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2673AA-2D79-4B9D-8081-F31675D9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B8A15C-684A-47B9-8C8A-46FECF4B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558E16-623F-45BF-9D43-51FC1BA1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B94C3-6579-4784-843E-215200A5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EF3B6-669C-4681-8A13-82FC4F29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79F564-7794-43A7-8EA4-521842BFE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A7AEFF-D21F-4649-BE2C-05395B79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80955-D9FB-4494-8087-1DA51C1E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686F4-24FB-4576-B975-BCE7DC7C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CE980A-A3BA-46EB-9B4F-CB34BBB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56BAB4-0BE2-42DB-AB51-F6F2F50D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43904D-6F57-45E8-B702-77281340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EF2F0B-110C-4C40-B712-4ED222FD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6769D-210E-437C-A153-72938D6F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F5CFD6-EC65-4FC2-9860-909F56FA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ED5606-727D-4706-BD5D-04C96EA7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698F8-0693-42B0-967C-8118B667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8D7264-2A07-4B9B-B7F3-B403ABCF5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C48872-68F5-4650-AE68-8E0044E4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3D7CD-0997-4E78-8951-A03AC74A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301BA-31B8-4929-8A49-DE6F19B3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A8367-4905-40B1-825B-C646C2E3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2EEC78-53AF-4796-9FBC-4AAE143D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7D0FF3-7A29-41D9-97F2-38F63230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840BD-46C9-4738-AD3C-837E5FE0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DDDF6-8D5E-4515-8BAA-5F6BC9B9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F93436-821D-4DE0-A678-79626930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BFC6EF-8226-4D66-9805-F315C2E4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59538-3D5D-462E-90CA-D6CB26B5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7CAD4A-B1C8-4556-8E02-89F859DB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C5DD4-F4FA-43DE-BD85-5E9ED208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C6673-5C40-487E-B76D-322D8AA1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082E1-2EA1-4D01-A573-5E80ED2E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7C354C-DF1E-4942-B7FA-E749E285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EE9C32-7585-4A12-BA04-421F0B23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005EB8-2466-414B-AB28-127D6817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AF8D8B-C5C0-43B4-9A93-572F074D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CFA2FC-87CF-4949-A514-7C972C2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621A11-0FF4-4721-9D8B-3C02BAA3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3F23E3-2BA5-4125-A279-DB957D24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F7F883-2AED-4662-9B4E-BF1C889D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33C66-01D9-4443-9A32-D7D85700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C125A7-66CC-4147-8270-12B26C43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4F393D-6B33-4BAD-A969-B3DF4842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BECAB1-8206-476E-AA77-9AE7458D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E8D4C3-3EFD-4D90-873B-984DB320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BD269D-02A1-425B-9184-04FF9545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84A45-EF8A-4043-802F-870FDF99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11E5D3-262A-4EF9-A854-973FF88E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B6983-6659-49DC-A702-8DE9918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95BC7B-DBBF-43F8-ABB0-AAE369AA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51C7AD-0534-46B4-94B6-6F0072CA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54A938-8FCE-4848-A311-00A698A3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AD53E6-7C1A-42B8-B8B3-5F7830F7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FE87E3-68B7-4F5D-B7EA-C4DCFB7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5419A-A4FD-45CD-8C49-9F90AEB1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ADCB23-B630-4A47-BFED-32B203D85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3DE57D-F55A-43BF-9661-89FBAEE0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3A379-1611-44FD-B930-290FA5E4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8027ED-75F7-4855-A5FC-E6A7B1E3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5452F6-982A-4B34-81A0-ECDF6201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8A4CE0-36E3-4FBA-960C-9C8CC7DB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3D59E2-9A9C-423C-8B1D-56F01A22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74BC27-F442-4711-B078-8B74E989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C21-7C00-477B-A4D3-4D2BAE76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525D32-CF4E-4A60-AC27-AA9B1B4C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98B636-9296-488C-AB21-A5F46C9CB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635973-3F3C-4A95-A13B-7B182C8C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E3E37F-ABDD-4E89-B8D4-56B18FF65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96F9B7-CF6E-4050-BB30-A25031AB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A978E9-6FAA-4A02-8AE5-DBFB2E66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9DB062-E986-4556-9F50-09C0BE5E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38528C-FA29-4028-BEAB-477E03DA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606C61-6709-411C-AE0C-AE4884C2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E0BEF3-4C4B-4173-8EE5-91D9D402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AB30E9-F712-47B2-9E0A-FAE70BC3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8F93AC-A3A8-4B78-B0D9-EA1094D1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E20E83-402A-4150-AC30-F6F46192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8CE5-7BB9-46FC-B576-DCCA6E7D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755A-0061-4BA1-8CA6-9FC55665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2C86-92F1-4C90-9104-A903F468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E9D-B9DF-4804-8950-A2EB11FF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AAE2-59BD-4C34-B456-4C34B816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204D-E1AC-400F-9DFA-E2633EAB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66BF-959F-4AC3-A8BD-91B0AB6C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7CB9-5C40-4932-94EA-0E4BD745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C42F-E198-4B8E-B510-C1D851DC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2ED9-F550-4D7E-820C-C270A1D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4C9D-FD49-4FB3-905C-A4367AEC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E897-3B8E-49C7-B54D-D3D93E0B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4884-8873-4146-BBF9-C0D61C89D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A2871-A29E-4061-AF2E-3AA2D258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5C0-0671-4F43-8B7D-E1538088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750D6-A270-4962-9A64-B357DF33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DE40-26D1-4E40-823B-4593BD29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1AF85-EBC4-40AA-A7B3-A66F686C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7C4EB-AB63-4566-B931-C71FF855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6F7F1-5DD5-42E1-8807-1BB08FF1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670AA-FFA3-44D8-A9FD-1B5F7624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E07A-16F8-48C1-A68E-C1FE4FAD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29E8E-D6BB-41FB-9B68-6087B366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3121-CABC-434B-86F4-5637240F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74BAA-C03B-44CB-9B35-89CD3306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D7D-C3C5-4402-99CD-2F9B5E90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F2B25-3A86-490B-8A0F-E422C031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F4D42-FD59-4053-9213-03C3435D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634F9-2B0B-4D0F-9034-D7D6C3A8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A1538-E2F5-4220-9594-8FA861DA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ABE8-0E33-4CC7-A0E7-435E31DA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99C7A-45CE-4E9B-B355-B2675BD6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EBB4B-F7E5-4C68-BBDB-ADEB2C81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0D11-5A58-4A26-8905-F4DBED13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BA216-ADC3-4161-A79F-3471714F7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6961-E9B0-4F96-B42E-AEB78CA5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73C-D863-4613-BB3E-8A08387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C0D1-6A9B-40D3-935B-53FEE37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5A98A-D332-42E8-95C7-837D7655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E074D-84A8-4CF7-AD3D-9E58F7C3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FF44B-E5EA-4A57-8F26-148A98D3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6917-42D3-48AA-B58C-09D820BD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581D3-CBFA-48AC-9786-7B04BA52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A2284-B804-4B16-868B-F013D80D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47A3D-881E-4466-9557-939C3417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AA589-071D-4A31-B41C-DF4172D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B2392-895B-4BA3-AF98-602EFE52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355F-0FA9-4AB3-B1A6-AF480A3D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BAC6E-EC01-4573-84BA-34691FA8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4FEC2-6FBC-4F39-AEF2-74BCDBE9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64EEE-9FDF-4F18-9844-E4C33430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8735-E424-4433-B9C0-F55E64A5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7F53F-D398-4EC5-A5FA-CD364AB6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6BDC2-A620-4B00-96F5-12085970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41E4-3443-4EB4-ACF4-1AC7CAAD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5475-41FA-4EC6-BBF4-3D4D7F49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C929B-F63E-4758-8AD4-52C67062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46D06-4CF7-4E7E-926A-20FEEE45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1068-8FAF-49A6-972C-E8EFA610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4FBF3-7E3B-484B-B772-FB294F0B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1CD64-5889-4556-A864-6BFCDC9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6DA1E-BD6A-45B5-9C4D-FD72B5C8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9C530-1F01-43BF-9B43-8944E581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F6B0F-01C4-48C4-AC11-4D7FDAC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60F7F-FC34-4CF7-AB42-843E368B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2A1E4-74AA-4F91-9804-639458CA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F8299-1D14-4524-B933-0EFF115C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CFB30-51FC-42F5-A440-B9908E11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18303-6278-49D9-8C8D-271A75D2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E001-4145-4312-8D76-6F24CC1A806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64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4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64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64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4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64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64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5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65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65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65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5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65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65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5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5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5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6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6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6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6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6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67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67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67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7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7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67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8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8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8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8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8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69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69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69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69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69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0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0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0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70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0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0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70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0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0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70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1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71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1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71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1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71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1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72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72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72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72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2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2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72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2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2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72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3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3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3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3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3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3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3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3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3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3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4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74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4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4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74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4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4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74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4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4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75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5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75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75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5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75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5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5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5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5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6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7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77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7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7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A6ED-20D5-4DE2-83D3-A20FD84CDE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82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82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2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2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2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3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3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3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3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3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83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3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83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83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83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84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84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4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4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84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85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85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85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5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6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86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86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6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6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87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7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7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87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7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7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87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7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7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87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8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8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8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8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8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8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8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8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8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8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9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9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9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89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9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89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9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9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0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0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90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90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90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90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0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0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90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0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1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91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1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1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91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1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1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91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1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1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92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2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2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92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2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2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92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2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2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92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3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93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3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3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93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3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3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4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95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95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BCC3-372D-486A-A4E1-9597F11AAF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00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00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00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01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01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01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01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01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01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01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01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01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01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02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02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02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02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2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02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3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3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3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3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04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04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04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4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4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04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5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05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5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5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5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05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06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6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06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6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06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6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07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7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7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07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7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7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07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7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7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07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8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08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08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08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08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8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8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9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9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9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9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09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9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09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0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0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0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0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0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10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0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0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10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0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1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11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1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11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1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11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11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2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3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4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1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49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3C21-AE3D-4E64-AD8B-1212329FEB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18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19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9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19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19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9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19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19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19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19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19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20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20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20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20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20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0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20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0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1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1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21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1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21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1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21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2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2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22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2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2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22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2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2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22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2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3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23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3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3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3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3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3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4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4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4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4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24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4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24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5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25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5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25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5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25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5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6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26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6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26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26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26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26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26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7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27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7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27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7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27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7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8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28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8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8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28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8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8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8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8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8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9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9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9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9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9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29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0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30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0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1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2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2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2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32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2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3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6763-28AA-499E-8527-750A67D402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37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37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7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37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7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7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37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37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37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38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38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8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38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38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38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38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8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38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9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39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9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39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9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39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9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0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40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0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0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40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0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0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40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0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0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41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1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41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1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41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1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41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2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42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2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42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2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42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2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3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43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3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3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3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3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3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3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3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4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4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4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4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44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44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44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45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45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5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5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5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5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5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6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6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6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6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6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6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6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6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6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6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7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7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7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7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7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47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48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8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48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8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49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0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50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0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0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0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0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3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E7E9-8116-42F2-B385-62F65833B1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55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55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5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55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55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5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55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56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56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56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56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56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56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56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56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56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6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7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57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7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7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57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7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7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7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7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7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58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8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58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8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58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8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58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9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59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9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59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9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59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9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0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60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0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0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60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0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0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60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0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0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61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1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61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1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61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1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61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2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62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2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62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2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62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2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63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63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63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63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3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3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3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3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3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3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4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4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4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4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4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64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65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5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5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5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65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5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66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6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6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66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6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66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6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6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6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6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7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68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68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8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8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4606-E708-4891-BB35-8C794F7F60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3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3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73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73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73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74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74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74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74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74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74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74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74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74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74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75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5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5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75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5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5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75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5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5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75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6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76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6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76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6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76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77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7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77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7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77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7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78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8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8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78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8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8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78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8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8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78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9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79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9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79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9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79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80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0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80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0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80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0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81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1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81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81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81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81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1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1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81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1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2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82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2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82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2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82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2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83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3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83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3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83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3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3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4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4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4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4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4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4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4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4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4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4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5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86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286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287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287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7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287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7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7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288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8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288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8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8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289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289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289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89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290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2901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52CE-4F1E-4A03-A271-95F9D22154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94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94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4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94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94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4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94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94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4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295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95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95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95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295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5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5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5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5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6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6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6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6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6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96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6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6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96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6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7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97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7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7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97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7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7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97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7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7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98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8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8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98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8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8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98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8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8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98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9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9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99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9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9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99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9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99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99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9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0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00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0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0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00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0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0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00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0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0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01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1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1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01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1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1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01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1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01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01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02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02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2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2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02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2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2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02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2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2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03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3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3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03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3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3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03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3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3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03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4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4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04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4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4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04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4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4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04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4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5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05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05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05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07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07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07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7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07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08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08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08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8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08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09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09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09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09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10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10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10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107" name="PlaceHolder 1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1CBF-6D8B-4072-8E15-42ED852846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14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4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14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15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5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15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15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5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15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15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15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15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15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16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16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16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6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6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16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6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6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16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6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7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17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7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7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17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7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7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7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7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7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8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8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8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8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8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8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8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8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8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8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9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19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9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19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19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19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19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20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0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20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0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20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0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0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21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1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1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21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1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1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21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1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1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21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2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2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22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2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22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22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22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22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2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2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23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3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3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23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3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3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23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3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3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23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4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4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24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4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4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24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4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4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24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4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5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25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5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5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25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5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25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25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5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25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6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7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28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28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28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28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8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28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28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8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8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8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29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29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29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29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29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30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30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0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30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30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1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1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31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313" name="PlaceHolder 1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314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315" name="PlaceHolder 3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CB9B-1716-4180-B78C-E7C29A554D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35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35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35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35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35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35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35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36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36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36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36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36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36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36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36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36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6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7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37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7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7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7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7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7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7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7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7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8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8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8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38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8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8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38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8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8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38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9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9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39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9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9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39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9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9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39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39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0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40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0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0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40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0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0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40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0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0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41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1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1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41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1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1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1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1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1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1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2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2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2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2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2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2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2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2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42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2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43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43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43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43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3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3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43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3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3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43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4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4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44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4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4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44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4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4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44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4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5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45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5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5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45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5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5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45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5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5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46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6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46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46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46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46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6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6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6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6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7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48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48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48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48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49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49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49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49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49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50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50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50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50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0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51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51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51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519" name="PlaceHolder 1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520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521" name="PlaceHolder 3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C2E4-69E1-4126-AF3D-9C60D91FFB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2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2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2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2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1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1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55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56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56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56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56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56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56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56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56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56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56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57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57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57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57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57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7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7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57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7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7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58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8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8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58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8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8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58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8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8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58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9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9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59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9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9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59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9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59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59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9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0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60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0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60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0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60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0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0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1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1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1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1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1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1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61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2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2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62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2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2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62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2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2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62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2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3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63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3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3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63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3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63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63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63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63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4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4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4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4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4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4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4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4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4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4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5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5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5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5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65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5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5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65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5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5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66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6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6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66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6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6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66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6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6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66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67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67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7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8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9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9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9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69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69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69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69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69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69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69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70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70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70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70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0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71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71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1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72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72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2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2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72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725" name="PlaceHolder 1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3E0D-39D7-44D0-9F24-3406EBECA7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76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76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76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76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76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77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77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77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77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77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77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77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77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77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77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78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8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8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78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8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8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78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8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8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78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9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79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9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79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9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79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9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80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0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80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0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80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0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0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81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1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81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1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81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1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81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2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82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2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82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2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82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2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83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3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83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3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3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3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3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4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4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384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84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384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84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4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4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84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4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85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85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85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5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86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6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6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86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6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6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86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6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6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6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7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7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7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7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7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7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387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7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7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8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89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389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390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390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0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390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0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0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391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1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391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1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1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392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392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392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2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393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3931" name="PlaceHolder 1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932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3933" name="PlaceHolder 3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9EEB-FC1F-4D57-A829-0E8B134F89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97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7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97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97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7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97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97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97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98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98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98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98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98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98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98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8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8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98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9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99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9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99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9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99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00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0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00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0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00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0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1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1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1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01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1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1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01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1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1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01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2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02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2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02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2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02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03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3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03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3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03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3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04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4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4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04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4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4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04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4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04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04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05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05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5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5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05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5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5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05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5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5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06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6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6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6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6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6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6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6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6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6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7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7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07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7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7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07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7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7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07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7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8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08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8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08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8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09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0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10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10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10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0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0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11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1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11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1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1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12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2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12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2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13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13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13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137" name="PlaceHolder 1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138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139" name="PlaceHolder 3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7C98-0EE0-47E5-8C82-F396DFFD09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1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1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1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1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1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1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1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1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1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1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1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1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1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1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1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2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2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2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2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2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2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2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2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2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2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2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2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2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2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2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2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2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2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2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2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2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2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2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2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2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2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2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2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2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31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31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31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1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1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31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1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1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1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2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32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2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32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2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3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33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3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33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33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4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4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34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343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152C-6216-4D28-B40D-DB46A27179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38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8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8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38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38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8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38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39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39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39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39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39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39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39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39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39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9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0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40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0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0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40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0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0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40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0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0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41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1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1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41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1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1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41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1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1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41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2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2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42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2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2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42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2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2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42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2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3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43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3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3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3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3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3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3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3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3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4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4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4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44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4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4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44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4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4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44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5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5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45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5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5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45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5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5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45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5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46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46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46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46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6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6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46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6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6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46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7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47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7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47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7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47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7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48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8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48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8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48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8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8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49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9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9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49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9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49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49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49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49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49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0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1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51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51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51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2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52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2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52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2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3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53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3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53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3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54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54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54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549" name="PlaceHolder 1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EB57-4472-4E63-8AC0-79BB532499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58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59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9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59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59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9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59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59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59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59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59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60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60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60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60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60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0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0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60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0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0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61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1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1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61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1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1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61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1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1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61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2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62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2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62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2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62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2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3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63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3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3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3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63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3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3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64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4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64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4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64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4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64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5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65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5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65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5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65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5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6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6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6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6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6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6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66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66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66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66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7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67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7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67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7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67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8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68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8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68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8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68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8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8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69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9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9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69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9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9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69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9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9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69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0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70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2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2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2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7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7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7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7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7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7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7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7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7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7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755" name="PlaceHolder 1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756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757" name="PlaceHolder 3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2AA8-8E46-48EA-9D8F-B4F8816B05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479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79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9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79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9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0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80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80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0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480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480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80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80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480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0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1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1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1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1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1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1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81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1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1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81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2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2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82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2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2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82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2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2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82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2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3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83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3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3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83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3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3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83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3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3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84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4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4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84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4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4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84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4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4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84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5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5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85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5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5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85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5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5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85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5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6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86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6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6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86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6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6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86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6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6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87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7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87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87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87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87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7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7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87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7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8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88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8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8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88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8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8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8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8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8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9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9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9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9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9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9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89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89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9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89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0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90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0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0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90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90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90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90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0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0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1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92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92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93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93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3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93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3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494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4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494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4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4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495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5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495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5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6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sp>
        <p:nvSpPr>
          <p:cNvPr id="4961" name="PlaceHolder 1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1f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2280-2EB5-408F-90DE-E98BD67AE72B}" type="slidenum">
              <a:rPr b="0" lang="en-US" sz="2400" spc="-1" strike="noStrike">
                <a:solidFill>
                  <a:srgbClr val="fe1f08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35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5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58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5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6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1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6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6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364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365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36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6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368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369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70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71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2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3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74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5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6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77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78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79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80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1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2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83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4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5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86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7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88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89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0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1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92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3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4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95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6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7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98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99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0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01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2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3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04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5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6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07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08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09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10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1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2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13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4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5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16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7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18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19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0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1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22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3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4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25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6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7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28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29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0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31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2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43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434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435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36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37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38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39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0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1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42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3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4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45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6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47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48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9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0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51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2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3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54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5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6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57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58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9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60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1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2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63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4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65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66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67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468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69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1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2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5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6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7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8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7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0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1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2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3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6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7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8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489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49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iRespond Graph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pSp>
        <p:nvGrpSpPr>
          <p:cNvPr id="49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49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49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49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33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100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49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67%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50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50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50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50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A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B*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D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0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cc00"/>
                  </a:solidFill>
                  <a:latin typeface="Arial Black"/>
                </a:rPr>
                <a:t>E</a:t>
              </a:r>
              <a:endParaRPr b="0" lang="en-US" sz="2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51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51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  <p:grpSp>
        <p:nvGrpSpPr>
          <p:cNvPr id="51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51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0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1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2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  <p:sp>
          <p:nvSpPr>
            <p:cNvPr id="52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fe1f08"/>
                </a:solidFill>
                <a:latin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559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0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561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562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563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64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65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6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67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68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69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0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71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2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3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74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75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6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77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78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79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0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1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2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3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84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5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6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87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88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89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0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91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2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93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94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5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96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597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598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99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0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01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2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3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04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05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6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07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08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09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0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1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2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3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14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5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6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17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18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19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0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21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2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23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24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5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26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27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28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29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0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631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32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633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34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5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36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37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38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39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0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41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2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43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44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5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46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47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48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49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0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51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2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3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54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55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6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57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58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59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60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1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2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663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64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665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666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667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668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69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0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1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2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3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74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675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676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77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78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79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0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1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2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3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4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5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6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7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8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89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690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0102-5315-47BC-A4DC-45D5B30F247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73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73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73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73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73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73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73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74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74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74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74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74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74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74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74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74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75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75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75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5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76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6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6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6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6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6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77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77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7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77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78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78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78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8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8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79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79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79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9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9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79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80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80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0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80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0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81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81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81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1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1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1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1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2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82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2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82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2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82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83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83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83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3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84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4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4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84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4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84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4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4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4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4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5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86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8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C2CF-B018-497A-B28D-B2FA78D6D72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4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915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916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917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91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1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92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921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22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923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924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925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26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92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928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29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30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1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2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93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4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5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936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37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38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93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0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1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942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3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4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945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6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47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94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9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0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951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2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95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95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5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9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960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6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6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6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6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7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4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975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6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7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97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0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981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2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3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984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5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6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987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8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9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990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1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992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99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994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995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6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97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998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99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0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001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2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3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004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5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00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09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010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1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2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013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4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5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16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17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8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19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20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2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2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2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24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025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26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02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28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2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1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2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3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4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7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3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2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3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4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04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4072-83FF-4B84-8994-536E05C394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09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09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09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10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10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0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10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10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10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10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0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10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10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11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11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11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11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1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11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1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12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12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2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2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3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3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13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3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3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13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14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14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4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14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4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15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15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15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5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5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16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16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6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6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6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6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7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7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7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17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17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17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17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7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7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18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8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8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18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8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8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18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8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8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18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9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19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9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19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9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19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9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0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20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0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0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20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0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0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20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0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20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1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2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3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23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0B19-F237-4CBB-9651-EF16CA319F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27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8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8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28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8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8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28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8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28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28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28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9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29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29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29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29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29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29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29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0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0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0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0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0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0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1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1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1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1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1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2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2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2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2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2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3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3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3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3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3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3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4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4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4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4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4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5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5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5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5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5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5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35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35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35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5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6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36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6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36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6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6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6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7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7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7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37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7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7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38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8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8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38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8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8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38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8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38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38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39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39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39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0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1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1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1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41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1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2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929E-01D7-40B4-8FF2-C64A8E4C39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46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6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6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46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6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6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46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6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46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  <p:grpSp>
          <p:nvGrpSpPr>
            <p:cNvPr id="147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47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7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47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7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47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47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7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7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7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8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8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8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8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8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49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49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49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49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49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50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50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50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0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0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50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51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51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1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51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1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52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2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52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2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52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2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2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3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3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3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3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3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3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3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3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153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sp>
              <p:nvSpPr>
                <p:cNvPr id="153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1f08"/>
                    </a:solidFill>
                    <a:latin typeface="Arial Black"/>
                  </a:endParaRPr>
                </a:p>
              </p:txBody>
            </p:sp>
            <p:grpSp>
              <p:nvGrpSpPr>
                <p:cNvPr id="154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54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4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54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4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54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4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4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55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55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55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5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5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55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6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6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56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6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6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56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6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6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56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6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57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7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57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e1f08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57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7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8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  <p:sp>
            <p:nvSpPr>
              <p:cNvPr id="159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1f08"/>
                  </a:solidFill>
                  <a:latin typeface="Arial Black"/>
                </a:endParaRPr>
              </a:p>
            </p:txBody>
          </p:sp>
        </p:grpSp>
      </p:grpSp>
      <p:sp>
        <p:nvSpPr>
          <p:cNvPr id="159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Respond Question Master</a:t>
            </a:r>
            <a:endParaRPr b="0" lang="en-US" sz="4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59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.) Response A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59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.) Response B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59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.) Response C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59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.) Response D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.) Response E</a:t>
            </a:r>
            <a:endParaRPr b="0" lang="en-US" sz="32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Percent Complete 100%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00:30</a:t>
            </a:r>
            <a:endParaRPr b="0" lang="en-US" sz="14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75A0-4DBC-4DD8-A76D-DC178E1857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flnet.com/grammar/comparisons.php" TargetMode="External"/><Relationship Id="rId2" Type="http://schemas.openxmlformats.org/officeDocument/2006/relationships/hyperlink" Target="http://www.eflnet.com/grammar/comparisons.php" TargetMode="External"/><Relationship Id="rId3" Type="http://schemas.openxmlformats.org/officeDocument/2006/relationships/hyperlink" Target="http://www.english-zone.com/spelling/sup1.ht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rainpop.com/english/grammar/adjectives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152280" y="1827360"/>
            <a:ext cx="8305920" cy="50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mparative and Superlativ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djectives and Adverb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PI 0501.1.3 Identify the correct use of adjectives (i.e., common/proper, </a:t>
            </a:r>
            <a:r>
              <a:rPr b="1" lang="en-US" sz="2800" spc="-1" strike="noStrike">
                <a:solidFill>
                  <a:srgbClr val="fe1f08"/>
                </a:solidFill>
                <a:latin typeface="Arial Black"/>
              </a:rPr>
              <a:t>comparative form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predicate adjectives) and adverbs (i.e., </a:t>
            </a:r>
            <a:r>
              <a:rPr b="1" lang="en-US" sz="2800" spc="-1" strike="noStrike">
                <a:solidFill>
                  <a:srgbClr val="fe1f08"/>
                </a:solidFill>
                <a:latin typeface="Arial Black"/>
              </a:rPr>
              <a:t>comparative form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, negatives) within context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1" name="Text Box 4"/>
          <p:cNvSpPr/>
          <p:nvPr/>
        </p:nvSpPr>
        <p:spPr>
          <a:xfrm>
            <a:off x="838080" y="5073480"/>
            <a:ext cx="762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7" name="PlaceHolder 1"/>
          <p:cNvSpPr>
            <a:spLocks noGrp="1"/>
          </p:cNvSpPr>
          <p:nvPr>
            <p:ph/>
          </p:nvPr>
        </p:nvSpPr>
        <p:spPr>
          <a:xfrm>
            <a:off x="6858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bird sings </a:t>
            </a:r>
            <a:r>
              <a:rPr b="1" lang="en-US" sz="2800" spc="-1" strike="noStrike">
                <a:solidFill>
                  <a:srgbClr val="fe1f08"/>
                </a:solidFill>
                <a:latin typeface="Arial Black"/>
              </a:rPr>
              <a:t>loudl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 children sing </a:t>
            </a:r>
            <a:r>
              <a:rPr b="0" lang="en-US" sz="2800" spc="-1" strike="noStrike">
                <a:solidFill>
                  <a:srgbClr val="fe1f08"/>
                </a:solidFill>
                <a:latin typeface="Arial Black"/>
              </a:rPr>
              <a:t>more loudl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than the bir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f all three, Pete sings </a:t>
            </a:r>
            <a:r>
              <a:rPr b="1" lang="en-US" sz="2800" spc="-1" strike="noStrike">
                <a:solidFill>
                  <a:srgbClr val="fe1f08"/>
                </a:solidFill>
                <a:latin typeface="Arial Black"/>
              </a:rPr>
              <a:t>most loudly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38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5039" name="Picture 6" descr="loud1"/>
          <p:cNvPicPr/>
          <p:nvPr/>
        </p:nvPicPr>
        <p:blipFill>
          <a:blip r:embed="rId2"/>
          <a:stretch/>
        </p:blipFill>
        <p:spPr>
          <a:xfrm>
            <a:off x="914400" y="1600200"/>
            <a:ext cx="1611360" cy="191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40" name=""/>
          <p:cNvGraphicFramePr/>
          <p:nvPr/>
        </p:nvGraphicFramePr>
        <p:xfrm>
          <a:off x="3755880" y="-4799160"/>
          <a:ext cx="625680" cy="164433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</a:tblGrid>
              <a:tr h="1528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15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oud</a:t>
                      </a:r>
                      <a:endParaRPr b="0" lang="en-US" sz="1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ouder</a:t>
                      </a:r>
                      <a:endParaRPr b="0" lang="en-US" sz="1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oudest</a:t>
                      </a:r>
                      <a:endParaRPr b="0" lang="en-US" sz="1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41" name="Picture 90" descr=""/>
          <p:cNvPicPr/>
          <p:nvPr/>
        </p:nvPicPr>
        <p:blipFill>
          <a:blip r:embed="rId3"/>
          <a:stretch/>
        </p:blipFill>
        <p:spPr>
          <a:xfrm>
            <a:off x="6477120" y="14479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5042" name="Picture 92" descr="loud3"/>
          <p:cNvPicPr/>
          <p:nvPr/>
        </p:nvPicPr>
        <p:blipFill>
          <a:blip r:embed="rId4"/>
          <a:stretch/>
        </p:blipFill>
        <p:spPr>
          <a:xfrm>
            <a:off x="6400800" y="1295280"/>
            <a:ext cx="1928880" cy="2286000"/>
          </a:xfrm>
          <a:prstGeom prst="rect">
            <a:avLst/>
          </a:prstGeom>
          <a:ln w="0">
            <a:noFill/>
          </a:ln>
        </p:spPr>
      </p:pic>
      <p:sp>
        <p:nvSpPr>
          <p:cNvPr id="5043" name="Text Box 94"/>
          <p:cNvSpPr/>
          <p:nvPr/>
        </p:nvSpPr>
        <p:spPr>
          <a:xfrm>
            <a:off x="457200" y="349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or adverbs ending in –ly, add “more” to the original adverb to form the comparative, and “most” to form the superlative. 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pic>
        <p:nvPicPr>
          <p:cNvPr id="5044" name="Picture 95" descr="MC900436043[1]"/>
          <p:cNvPicPr/>
          <p:nvPr/>
        </p:nvPicPr>
        <p:blipFill>
          <a:blip r:embed="rId5"/>
          <a:stretch/>
        </p:blipFill>
        <p:spPr>
          <a:xfrm>
            <a:off x="3200400" y="1828800"/>
            <a:ext cx="225432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List of Adverbs in Which -er and -est May Be Added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46" name=""/>
          <p:cNvGraphicFramePr/>
          <p:nvPr/>
        </p:nvGraphicFramePr>
        <p:xfrm>
          <a:off x="685800" y="2438280"/>
          <a:ext cx="7772400" cy="2976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83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verb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parativ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erlative</a:t>
                      </a: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quick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quick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 quick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low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slow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 slow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areful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careful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quickly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ften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often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 often</a:t>
                      </a:r>
                      <a:endParaRPr b="0" lang="en-US" sz="20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Irregular Comparative and Superlative Adjectives and Adverbs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 comparative and superlative forms are irregular and do not follow any rules or patterns. These must be memoriz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rregular Adverb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50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663560"/>
                <a:gridCol w="3187800"/>
                <a:gridCol w="29210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parativ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erlativ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adly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uch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ttl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ess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ea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ell 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est 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ow let’s take a look at some irregular adjectives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Irregular Adjectives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54" name=""/>
          <p:cNvGraphicFramePr/>
          <p:nvPr/>
        </p:nvGraphicFramePr>
        <p:xfrm>
          <a:off x="685800" y="1981080"/>
          <a:ext cx="7772400" cy="3575160"/>
        </p:xfrm>
        <a:graphic>
          <a:graphicData uri="http://schemas.openxmlformats.org/drawingml/2006/table">
            <a:tbl>
              <a:tblPr/>
              <a:tblGrid>
                <a:gridCol w="1663560"/>
                <a:gridCol w="3187800"/>
                <a:gridCol w="2921040"/>
              </a:tblGrid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parativ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erlativ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goo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ba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s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uch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ttle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ess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ea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ld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l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ld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ldes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eldest 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athan made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good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w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lly's stew was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ett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an Nathan'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zra made the </a:t>
            </a:r>
            <a:r>
              <a:rPr b="1" lang="en-US" sz="3200" spc="-1" strike="noStrike">
                <a:solidFill>
                  <a:srgbClr val="ffcc00"/>
                </a:solidFill>
                <a:latin typeface="Arial Black"/>
              </a:rPr>
              <a:t>best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w of al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Activities To Practice Adjective and Adverb Comparison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eflnet.com/grammar/comparisons.ph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www.eflnet.com/grammar/comparisons.php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http://www.english-zone.com/spelling/sup1.ht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jectives and adverbs are words that describe or modify other word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*The </a:t>
            </a:r>
            <a:r>
              <a:rPr b="1" lang="en-US" sz="3200" spc="-1" strike="noStrike">
                <a:solidFill>
                  <a:srgbClr val="fe1f08"/>
                </a:solidFill>
                <a:latin typeface="Arial Black"/>
              </a:rPr>
              <a:t>comparativ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orm of an adjective or adverb compares </a:t>
            </a:r>
            <a:r>
              <a:rPr b="1" lang="en-US" sz="3200" spc="-1" strike="noStrike">
                <a:solidFill>
                  <a:srgbClr val="99ff66"/>
                </a:solidFill>
                <a:latin typeface="Arial Black"/>
              </a:rPr>
              <a:t>two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ing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*The </a:t>
            </a:r>
            <a:r>
              <a:rPr b="1" lang="en-US" sz="3200" spc="-1" strike="noStrike">
                <a:solidFill>
                  <a:srgbClr val="fe1f08"/>
                </a:solidFill>
                <a:latin typeface="Arial Black"/>
              </a:rPr>
              <a:t>superlativ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form of an adjective or adverb compares </a:t>
            </a:r>
            <a:r>
              <a:rPr b="1" lang="en-US" sz="3200" spc="-1" strike="noStrike">
                <a:solidFill>
                  <a:srgbClr val="99ff66"/>
                </a:solidFill>
                <a:latin typeface="Arial Black"/>
              </a:rPr>
              <a:t>three or more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ing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rainPo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jectiv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99"/>
                </a:solidFill>
                <a:uFillTx/>
                <a:latin typeface="Arial Black"/>
                <a:hlinkClick r:id="rId1"/>
              </a:rPr>
              <a:t>http://www.brainpop.com/english/grammar/adjectives/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jectiv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6" name="PlaceHolder 2"/>
          <p:cNvSpPr>
            <a:spLocks noGrp="1"/>
          </p:cNvSpPr>
          <p:nvPr>
            <p:ph/>
          </p:nvPr>
        </p:nvSpPr>
        <p:spPr>
          <a:xfrm>
            <a:off x="762120" y="4038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rge           larger         larges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first apple is large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second apple is larger than the firs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third apple is the largest of the thre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07" name="Picture 10" descr="apple"/>
          <p:cNvPicPr/>
          <p:nvPr/>
        </p:nvPicPr>
        <p:blipFill>
          <a:blip r:embed="rId1"/>
          <a:stretch/>
        </p:blipFill>
        <p:spPr>
          <a:xfrm>
            <a:off x="1143000" y="2514600"/>
            <a:ext cx="1322280" cy="1438200"/>
          </a:xfrm>
          <a:prstGeom prst="rect">
            <a:avLst/>
          </a:prstGeom>
          <a:ln w="0">
            <a:noFill/>
          </a:ln>
        </p:spPr>
      </p:pic>
      <p:pic>
        <p:nvPicPr>
          <p:cNvPr id="5008" name="Picture 13" descr=""/>
          <p:cNvPicPr/>
          <p:nvPr/>
        </p:nvPicPr>
        <p:blipFill>
          <a:blip r:embed="rId2"/>
          <a:stretch/>
        </p:blipFill>
        <p:spPr>
          <a:xfrm>
            <a:off x="5241960" y="0"/>
            <a:ext cx="3902040" cy="3902040"/>
          </a:xfrm>
          <a:prstGeom prst="rect">
            <a:avLst/>
          </a:prstGeom>
          <a:ln w="0">
            <a:noFill/>
          </a:ln>
        </p:spPr>
      </p:pic>
      <p:pic>
        <p:nvPicPr>
          <p:cNvPr id="5009" name="Picture 15" descr="apple"/>
          <p:cNvPicPr/>
          <p:nvPr/>
        </p:nvPicPr>
        <p:blipFill>
          <a:blip r:embed="rId3"/>
          <a:stretch/>
        </p:blipFill>
        <p:spPr>
          <a:xfrm>
            <a:off x="5867280" y="1523880"/>
            <a:ext cx="2303640" cy="2505240"/>
          </a:xfrm>
          <a:prstGeom prst="rect">
            <a:avLst/>
          </a:prstGeom>
          <a:ln w="0">
            <a:noFill/>
          </a:ln>
        </p:spPr>
      </p:pic>
      <p:pic>
        <p:nvPicPr>
          <p:cNvPr id="5010" name="Picture 16" descr="apple"/>
          <p:cNvPicPr/>
          <p:nvPr/>
        </p:nvPicPr>
        <p:blipFill>
          <a:blip r:embed="rId4"/>
          <a:stretch/>
        </p:blipFill>
        <p:spPr>
          <a:xfrm>
            <a:off x="3581280" y="1981080"/>
            <a:ext cx="18129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1" name="PlaceHolder 1"/>
          <p:cNvSpPr>
            <a:spLocks noGrp="1"/>
          </p:cNvSpPr>
          <p:nvPr>
            <p:ph/>
          </p:nvPr>
        </p:nvSpPr>
        <p:spPr>
          <a:xfrm>
            <a:off x="685800" y="3886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jalopy is a </a:t>
            </a:r>
            <a:r>
              <a:rPr b="0" lang="en-US" sz="4000" spc="-1" strike="noStrike">
                <a:solidFill>
                  <a:srgbClr val="fe1f08"/>
                </a:solidFill>
                <a:latin typeface="Arial Black"/>
              </a:rPr>
              <a:t>fa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racecar is the </a:t>
            </a:r>
            <a:r>
              <a:rPr b="0" lang="en-US" sz="4000" spc="-1" strike="noStrike">
                <a:solidFill>
                  <a:srgbClr val="fe1f08"/>
                </a:solidFill>
                <a:latin typeface="Arial Black"/>
              </a:rPr>
              <a:t>fast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dragster is the </a:t>
            </a:r>
            <a:r>
              <a:rPr b="0" lang="en-US" sz="4000" spc="-1" strike="noStrike">
                <a:solidFill>
                  <a:srgbClr val="fe1f08"/>
                </a:solidFill>
                <a:latin typeface="Arial Black"/>
              </a:rPr>
              <a:t>faste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a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12" name="Picture 4" descr=""/>
          <p:cNvPicPr/>
          <p:nvPr/>
        </p:nvPicPr>
        <p:blipFill>
          <a:blip r:embed="rId1"/>
          <a:stretch/>
        </p:blipFill>
        <p:spPr>
          <a:xfrm>
            <a:off x="5486400" y="0"/>
            <a:ext cx="3902040" cy="3902040"/>
          </a:xfrm>
          <a:prstGeom prst="rect">
            <a:avLst/>
          </a:prstGeom>
          <a:ln w="0">
            <a:noFill/>
          </a:ln>
        </p:spPr>
      </p:pic>
      <p:pic>
        <p:nvPicPr>
          <p:cNvPr id="5013" name="Picture 9" descr=""/>
          <p:cNvPicPr/>
          <p:nvPr/>
        </p:nvPicPr>
        <p:blipFill>
          <a:blip r:embed="rId2"/>
          <a:stretch/>
        </p:blipFill>
        <p:spPr>
          <a:xfrm>
            <a:off x="2514600" y="380880"/>
            <a:ext cx="3276720" cy="1433520"/>
          </a:xfrm>
          <a:prstGeom prst="rect">
            <a:avLst/>
          </a:prstGeom>
          <a:ln w="0">
            <a:noFill/>
          </a:ln>
        </p:spPr>
      </p:pic>
      <p:pic>
        <p:nvPicPr>
          <p:cNvPr id="5014" name="Picture 10" descr=""/>
          <p:cNvPicPr/>
          <p:nvPr/>
        </p:nvPicPr>
        <p:blipFill>
          <a:blip r:embed="rId3"/>
          <a:stretch/>
        </p:blipFill>
        <p:spPr>
          <a:xfrm>
            <a:off x="380880" y="1828800"/>
            <a:ext cx="2362320" cy="1471680"/>
          </a:xfrm>
          <a:prstGeom prst="rect">
            <a:avLst/>
          </a:prstGeom>
          <a:ln w="0">
            <a:noFill/>
          </a:ln>
        </p:spPr>
      </p:pic>
      <p:pic>
        <p:nvPicPr>
          <p:cNvPr id="5015" name="Picture 13" descr=""/>
          <p:cNvPicPr/>
          <p:nvPr/>
        </p:nvPicPr>
        <p:blipFill>
          <a:blip r:embed="rId4"/>
          <a:stretch/>
        </p:blipFill>
        <p:spPr>
          <a:xfrm>
            <a:off x="3886200" y="2057400"/>
            <a:ext cx="495288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17" name="Rectangle 19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aphicFrame>
        <p:nvGraphicFramePr>
          <p:cNvPr id="5018" name=""/>
          <p:cNvGraphicFramePr/>
          <p:nvPr/>
        </p:nvGraphicFramePr>
        <p:xfrm>
          <a:off x="4297320" y="1373040"/>
          <a:ext cx="547560" cy="3471840"/>
        </p:xfrm>
        <a:graphic>
          <a:graphicData uri="http://schemas.openxmlformats.org/drawingml/2006/table">
            <a:tbl>
              <a:tblPr/>
              <a:tblGrid>
                <a:gridCol w="547560"/>
              </a:tblGrid>
              <a:tr h="34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19" name="Rectangle 87"/>
          <p:cNvSpPr/>
          <p:nvPr/>
        </p:nvSpPr>
        <p:spPr>
          <a:xfrm>
            <a:off x="4449600" y="48445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aphicFrame>
        <p:nvGraphicFramePr>
          <p:cNvPr id="5020" name=""/>
          <p:cNvGraphicFramePr/>
          <p:nvPr/>
        </p:nvGraphicFramePr>
        <p:xfrm>
          <a:off x="457200" y="3962520"/>
          <a:ext cx="9164520" cy="2508120"/>
        </p:xfrm>
        <a:graphic>
          <a:graphicData uri="http://schemas.openxmlformats.org/drawingml/2006/table">
            <a:tbl>
              <a:tblPr/>
              <a:tblGrid>
                <a:gridCol w="3054240"/>
                <a:gridCol w="3056040"/>
                <a:gridCol w="305424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all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all</a:t>
                      </a:r>
                      <a:r>
                        <a:rPr b="0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all</a:t>
                      </a:r>
                      <a:r>
                        <a:rPr b="0" lang="en-US" sz="2400" spc="-1" strike="noStrike">
                          <a:solidFill>
                            <a:srgbClr val="fe1f08"/>
                          </a:solidFill>
                          <a:latin typeface="Verdana"/>
                        </a:rPr>
                        <a:t>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nea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neat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neat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eep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eep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eep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1" name="Rectangle 148"/>
          <p:cNvSpPr/>
          <p:nvPr/>
        </p:nvSpPr>
        <p:spPr>
          <a:xfrm>
            <a:off x="22320" y="1689840"/>
            <a:ext cx="858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o form the comparative or superlative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of one syllable words with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more than one vowel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ending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with more than one consonant 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at the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add </a:t>
            </a:r>
            <a:r>
              <a:rPr b="1" lang="en-US" sz="2400" spc="-1" strike="noStrike">
                <a:solidFill>
                  <a:srgbClr val="fe1f08"/>
                </a:solidFill>
                <a:latin typeface="Verdana"/>
              </a:rPr>
              <a:t>-er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 OR </a:t>
            </a:r>
            <a:r>
              <a:rPr b="1" lang="en-US" sz="2400" spc="-1" strike="noStrike">
                <a:solidFill>
                  <a:srgbClr val="fe1f08"/>
                </a:solidFill>
                <a:latin typeface="Verdana"/>
              </a:rPr>
              <a:t>-est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3" name="Rectangle 3"/>
          <p:cNvSpPr/>
          <p:nvPr/>
        </p:nvSpPr>
        <p:spPr>
          <a:xfrm>
            <a:off x="0" y="137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aphicFrame>
        <p:nvGraphicFramePr>
          <p:cNvPr id="5024" name=""/>
          <p:cNvGraphicFramePr/>
          <p:nvPr/>
        </p:nvGraphicFramePr>
        <p:xfrm>
          <a:off x="4297320" y="1373040"/>
          <a:ext cx="547560" cy="3471840"/>
        </p:xfrm>
        <a:graphic>
          <a:graphicData uri="http://schemas.openxmlformats.org/drawingml/2006/table">
            <a:tbl>
              <a:tblPr/>
              <a:tblGrid>
                <a:gridCol w="547560"/>
              </a:tblGrid>
              <a:tr h="347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5" name="Rectangle 10"/>
          <p:cNvSpPr/>
          <p:nvPr/>
        </p:nvSpPr>
        <p:spPr>
          <a:xfrm>
            <a:off x="4449600" y="48445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e1f08"/>
              </a:solidFill>
              <a:latin typeface="Arial Black"/>
            </a:endParaRPr>
          </a:p>
        </p:txBody>
      </p:sp>
      <p:graphicFrame>
        <p:nvGraphicFramePr>
          <p:cNvPr id="5026" name=""/>
          <p:cNvGraphicFramePr/>
          <p:nvPr/>
        </p:nvGraphicFramePr>
        <p:xfrm>
          <a:off x="457200" y="3962520"/>
          <a:ext cx="9164520" cy="2508120"/>
        </p:xfrm>
        <a:graphic>
          <a:graphicData uri="http://schemas.openxmlformats.org/drawingml/2006/table">
            <a:tbl>
              <a:tblPr/>
              <a:tblGrid>
                <a:gridCol w="3054240"/>
                <a:gridCol w="3056040"/>
                <a:gridCol w="3054240"/>
              </a:tblGrid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y 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i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i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lly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lli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jolli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azy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azier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aziest</a:t>
                      </a:r>
                      <a:endParaRPr b="0" lang="en-US" sz="2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7" name="Rectangle 30"/>
          <p:cNvSpPr/>
          <p:nvPr/>
        </p:nvSpPr>
        <p:spPr>
          <a:xfrm>
            <a:off x="22320" y="2239920"/>
            <a:ext cx="85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To form the comparative or superlative of a </a:t>
            </a: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two syllable word ending in y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, change the y to i, then add -er OR -est. </a:t>
            </a:r>
            <a:endParaRPr b="0" lang="en-US" sz="24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Things to Remember!!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029" name=""/>
          <p:cNvGraphicFramePr/>
          <p:nvPr/>
        </p:nvGraphicFramePr>
        <p:xfrm>
          <a:off x="0" y="1066680"/>
          <a:ext cx="9144000" cy="55468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jective form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omparative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Superlative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ly one syllable, with more than one vowel or more than one consonant at the end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ght, neat, fast, tall, neat, deep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er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ghter, neater, faster, taller, neater, deeper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est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lightest, neatest, fastest, tallest. neatest, deepest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ly one syllable, ending in E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de, fine, cute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r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der, finer, cuter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st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widest, finest, cutest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Only one syllable, with one vowel and one consonant at the end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ot, big, fat, sad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ouble the consonant, and add -er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otter, bigger, fatter, sadder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Double the consonant, and add -est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ottest, biggest, fattest, saddest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wo syllables, ending in Y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y, silly, lonely, jolly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ange y to i, then add -er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ier, sillier, lonelier, jollier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Change y to i, then add -est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happiest, silliest, loneliest, jolliest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wo syllable word ending in a vowel-sound that is not stress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yellow, simple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er: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yellower, simpler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Add -est: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yellowest, simplest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Two syllables or more, not ending in Y. Examples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dern, interesting, beautiful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,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se more before the adjective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re modern, more interesting, more beautiful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Use most before the adjective: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most modern, most interesting, most beautiful</a:t>
                      </a:r>
                      <a:r>
                        <a:rPr b="0" lang="en-US" sz="1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fe1f08"/>
                        </a:solidFill>
                        <a:latin typeface="Arial Black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30" name="Rectangle 152"/>
          <p:cNvSpPr/>
          <p:nvPr/>
        </p:nvSpPr>
        <p:spPr>
          <a:xfrm>
            <a:off x="767520" y="5223600"/>
            <a:ext cx="21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c00"/>
                </a:solidFill>
                <a:latin typeface="Verdana"/>
              </a:rPr>
              <a:t> </a:t>
            </a:r>
            <a:endParaRPr b="0" lang="en-US" sz="1000" spc="-1" strike="noStrike">
              <a:solidFill>
                <a:srgbClr val="fe1f08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ke adjectives, some adverbs ca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ke comparative and superla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ms, with -er and –est. 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609480" y="4191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lly works </a:t>
            </a: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har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eve works </a:t>
            </a: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harder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than Sal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athy and Sue work </a:t>
            </a:r>
            <a:r>
              <a:rPr b="0" lang="en-US" sz="3200" spc="-1" strike="noStrike">
                <a:solidFill>
                  <a:srgbClr val="fe1f08"/>
                </a:solidFill>
                <a:latin typeface="Arial Black"/>
              </a:rPr>
              <a:t>harde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of all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033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3200400"/>
          </a:xfrm>
          <a:prstGeom prst="rect">
            <a:avLst/>
          </a:prstGeom>
          <a:ln w="0">
            <a:noFill/>
          </a:ln>
        </p:spPr>
      </p:pic>
      <p:pic>
        <p:nvPicPr>
          <p:cNvPr id="5034" name="Picture 6" descr="work1"/>
          <p:cNvPicPr/>
          <p:nvPr/>
        </p:nvPicPr>
        <p:blipFill>
          <a:blip r:embed="rId2"/>
          <a:stretch/>
        </p:blipFill>
        <p:spPr>
          <a:xfrm>
            <a:off x="914400" y="2057400"/>
            <a:ext cx="2133720" cy="1946160"/>
          </a:xfrm>
          <a:prstGeom prst="rect">
            <a:avLst/>
          </a:prstGeom>
          <a:ln w="0">
            <a:noFill/>
          </a:ln>
        </p:spPr>
      </p:pic>
      <p:pic>
        <p:nvPicPr>
          <p:cNvPr id="5035" name="Picture 8" descr="work2"/>
          <p:cNvPicPr/>
          <p:nvPr/>
        </p:nvPicPr>
        <p:blipFill>
          <a:blip r:embed="rId3"/>
          <a:stretch/>
        </p:blipFill>
        <p:spPr>
          <a:xfrm>
            <a:off x="3505320" y="1981080"/>
            <a:ext cx="2286000" cy="2027520"/>
          </a:xfrm>
          <a:prstGeom prst="rect">
            <a:avLst/>
          </a:prstGeom>
          <a:ln w="0">
            <a:noFill/>
          </a:ln>
        </p:spPr>
      </p:pic>
      <p:pic>
        <p:nvPicPr>
          <p:cNvPr id="5036" name="Picture 10" descr="work3"/>
          <p:cNvPicPr/>
          <p:nvPr/>
        </p:nvPicPr>
        <p:blipFill>
          <a:blip r:embed="rId4"/>
          <a:stretch/>
        </p:blipFill>
        <p:spPr>
          <a:xfrm>
            <a:off x="6248520" y="1841400"/>
            <a:ext cx="220968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23:21:32Z</dcterms:created>
  <dc:creator>Gay  Miller</dc:creator>
  <dc:description/>
  <dc:language>en-US</dc:language>
  <cp:lastModifiedBy>Nadia Williams</cp:lastModifiedBy>
  <dcterms:modified xsi:type="dcterms:W3CDTF">2014-03-19T14:35:03Z</dcterms:modified>
  <cp:revision>33</cp:revision>
  <dc:subject/>
  <dc:title>Comparative and Superlative Adjectives and Adverb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